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14CE-5C2A-4697-ACE8-769E8B3C2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FA21-7A9E-4ACA-8F37-1320DF4A5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E525-4E3B-406E-8A48-4162AA28C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2D33-8351-43EC-8096-8761D07A8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60F3-93FC-498B-ACCF-1CDF922DF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00A9-53B7-42AF-A91E-F78508D0C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D8E4-A9AD-4E17-8015-AE391636E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985F-2D20-45E0-A13C-789F54B62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5569-9D3B-4EE3-9B7B-6DF4E2B12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6EAD-D077-4B3B-854B-A68DB5B62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6E15-9FC7-4171-8CBF-B1BFA2A2B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85F1-5555-4C50-B91E-FF8EB9518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09FD-4104-43B1-B14D-D5891B921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35E0AD7-822F-495B-91C7-AB6C47E0B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E8CD3E9-FE20-4BBB-A916-412E5038B0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82D37E8-5B2F-4017-9499-FB95CD762A0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9A12EA9-273A-45B0-84F9-E45B6A79C7F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0A1EC-0DFE-40D8-8BE9-3692DF128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EB0E6-CE01-4102-A0D1-F747E8E62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55B76-0005-408F-B366-2702F8C8B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24D77-408E-4648-BE73-4826EC03D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4A458-D0A1-4E26-9BAC-ED7058533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406E5-C0D0-4BB5-853B-74758EDFD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576AC-1F77-4153-80AC-AEB8809F2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B6B2F76-A327-4DBD-A0A9-6407FAA32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54628-7B2C-4179-8263-6B38550BF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508DD-4E18-419A-B5CF-95AABE859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695B4-F466-4C02-BC92-D964BD94D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88C9BA-A398-4898-96BD-2FC551B32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2BF3A-08B9-4117-BF25-259E4DBE2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805DB65-88CD-47DF-A6A7-937FC092B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710CB51-D330-48F9-910A-D8B1EED28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A54AF33-0CE9-4F7D-8B2E-4D5AA9319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2FC5381-D0DA-4A1D-A894-1B4491EA0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8C36EEA-E9FF-45AF-9391-3A80F576FF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9EBD657-F069-484F-A077-A077DEACF2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E895EAD-FCBB-465F-98F7-ACC9E8E85C1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6948-CD55-437C-9EC4-97CAAFF4391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376D-3E2C-4914-8762-0944B06AB3F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736C-70B6-4CEC-B5A2-1C99520ACA0B}" type="datetime3">
              <a:rPr b="0" lang="en-US" sz="900" spc="-1" strike="noStrike">
                <a:solidFill>
                  <a:srgbClr val="4d4d4d"/>
                </a:solidFill>
                <a:latin typeface="Arial"/>
              </a:rPr>
              <a:t>July 31,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1CC6-3383-40F4-AE12-A16261868D6E}"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E510-B7E7-4954-A167-AA6DDA11CA4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268D-9063-4F53-98BB-45A1D6D541B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F536-552F-48A4-84CF-9A35D8F557C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E4B0-4DD5-4BFF-BA68-1DDF4F813A7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89C2-A4F8-4F99-9F35-32BEA650A54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2739-EE32-4E3F-B722-646EEE295F4B}"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C2A5-3522-4696-9BC0-A101E37DC90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1B68-D643-4FB7-882A-FB54DD084F3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EC3B-6EFD-4506-A4BD-98D7949A62C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1938-011B-4D00-94F7-B4937CCB6B3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93CA-A4FB-4ABC-881F-F18BEF1C50E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4519-1151-435A-AA65-2AC15211076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DA82-66B4-474A-8E38-58454FA5C18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49DA-57D3-4568-A8A7-BF4DC3B1723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CD9C-AB8C-466B-B56C-6AD383D2960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E6BE-EA40-476D-8FF6-A939C6BE2BA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C0BD-B7FA-4A00-B645-C1368AD5A39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E772-AF90-45BA-892D-401679A263E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B49C-B73E-434E-8BB6-D637D6005E2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CD72-E478-4A10-9E0B-7A89654FEB40}"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42A5-F984-4706-B75E-86DBD56F5F7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A8EC-5546-4378-ACAC-408F4A83EC1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E1C9-876C-4F0F-A7A7-232F3AB9A5E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A3CB-6321-4430-98B0-A7DBA31AA8A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D7D6-B834-4F9C-85BC-1BF83E5439D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9D0F-0122-4C0E-9F6D-F224F096F37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3E8C-A49D-4FC1-8FD4-446FEC14260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5ED7-4F96-46FF-9952-1E22BFD96D65}"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9B71-B6D4-4D43-8885-ADE1012ABEA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686C-82E3-42D1-BEEA-0841F157749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EF86-C340-43CA-9BCE-626CF28ADA7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06D2-B9A7-4C7C-BD48-069D2B3452E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AA52-C463-41E1-ACE6-F3662D9C77F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FB53-6B7A-441E-B2F9-0F70F14552F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E69E-198E-4B92-843A-7870FFFE199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995C-A7BB-4249-8AEB-EA3FC1EE696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E1A2-6588-4E49-8069-9486D7D4122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7490-4D14-4D5A-BDBF-03F11946994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870E-97DA-4C57-8F8F-6FC4FDEA59D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0900-2C43-495C-9017-67015C02EDC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EEB2-70DC-46B1-AAAE-5AFAA38B4A4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1850-0EB6-41D1-84A0-BF4D646216F8}"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CB5C-56A4-417A-BFE8-44FBC36DD29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9E2B-C110-485C-A49A-44EB17CA90E8}"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B708-D239-4F2D-BD1E-5128AD608D8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759D-9B45-4772-A7C1-0CA1A09F3B88}"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9779-BDB4-4C09-BB5E-40E1A51111D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2E3D-D873-4B72-9A9F-E97BCB79213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E01B-CC6E-4821-B623-4FB12D927B1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8632-71FA-4FD5-B442-47545B9F5B8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E5A9-A61B-4CC2-AEE9-375CF466F11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0EB8-5B8B-4179-97AB-14878C69D4B8}"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1945-8A3E-4977-A629-B73018DCA5A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1AD1-4A99-41F8-85FD-AA9A529BCF9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A2E2-A538-401C-A478-C1F483AB22D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378E-07C1-459B-B892-B6B703B16FC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6937-C4EA-4248-B64F-03F2DD1630E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4429-1DF5-4512-8BB6-4EB81F2F1055}"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5612-63D5-4D53-B848-FD962FEB312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33F6-133C-4D9F-9ADF-8828ED4D2A1A}"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FB03-A80F-4514-BD0C-A7941E59DB1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3661-6271-40CB-AFCF-807D862DA32A}"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C95D-8EE9-4BAA-BC05-B7D8DF3DA0F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FA15-C089-4BC5-A86E-08184D0CCED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B4CA-8F77-4DCE-B5C3-DE98DF6DB7B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EFB3-0E19-4476-A014-0D50A213286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3A52-A019-4BE2-94CC-68473C07B34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EB2D-F9B1-496D-8E58-22442121DB0C}"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BAAA-7F97-4207-B56A-2F38EA2FA9D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F87A-5CAD-492D-8B9C-A3E2987F2AB0}"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7B98-3DED-41F2-8AA7-726463830FA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C403-5E8D-4CC4-B819-3CE7B25720E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BFC3-A3F3-465C-B8B1-790E6C44983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A355-6559-4986-9834-02CBA5F684FA}"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BD31-F625-432E-8344-76F7F5AA35A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E5F7-CB0C-444C-A6B4-CA9C193A5FE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7C40-3300-45AA-9843-2149467D2FA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5340-291E-4AC3-92ED-8D2BDBA77A7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AE91-3223-41B2-9467-94613F196F2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245D-20B9-4E26-B640-CA5F0BE4450C}"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AFB8-8AE8-436F-84CD-CB8C7C25052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4BFD-1527-4D42-ABD3-162E778F1C4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8F06-3EC7-4D95-9B8F-9165F2858FF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2F4E-BA8C-4655-9C2D-0A9090D7AD3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29C7-FCF4-46AD-A042-825B17F1B40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54D2-D9BD-4597-BF36-EE1A012E876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C21C-846C-4A95-8C79-7D5ED152E8E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7B05-00C2-4A25-BA7B-5C10B4ADA2FA}"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0690-EAFF-4D9A-9822-55DFA8087B7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98B1-CE50-4FE1-8518-36DD6315257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0FCA-070F-422F-81A0-F1B7736935A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95DC-DB09-4330-B60D-C967DE27AC1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46F3-D9E6-4EE7-A441-57D719D8968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424A-4101-43B7-918E-8B97EB9EAB5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3407-74F4-4BF9-90B7-45F92496F28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7053-87B3-428D-AA39-2E2C98B5E6D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984B-D8C9-4770-8541-EAE54182582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E9F6-1C1F-427F-BA23-E5A53617D75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31B5-E996-437C-8A8A-F707AFCD7E6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5020-0ECC-4BE3-A8DC-58F6D36E323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59FA-C851-424C-9F0B-73101DE0D3D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D44E-CDF7-4240-8993-BF1C39550AB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4968-302C-4B9E-A017-841875EA848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1B03-1984-4D7E-A3D5-0D3BAB347E7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C008-FFCA-41FB-95D7-287D771BD18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66FB-8C5F-4361-8AA7-0E36CC4FCEDA}"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